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5016600" y="5524560"/>
            <a:ext cx="1198440" cy="48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016600" y="4635360"/>
            <a:ext cx="2793960" cy="55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016600" y="3903840"/>
            <a:ext cx="1135080" cy="50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16600" y="3187800"/>
            <a:ext cx="3132000" cy="55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016600" y="2535120"/>
            <a:ext cx="2778120" cy="525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5120" y="192240"/>
            <a:ext cx="6883560" cy="459720"/>
            <a:chOff x="195120" y="192240"/>
            <a:chExt cx="6883560" cy="45972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343160" y="192240"/>
              <a:ext cx="57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O O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SFORM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0880" y="685800"/>
            <a:ext cx="4367880" cy="460440"/>
            <a:chOff x="380880" y="685800"/>
            <a:chExt cx="4367880" cy="460440"/>
          </a:xfrm>
        </p:grpSpPr>
        <p:sp>
          <p:nvSpPr>
            <p:cNvPr id="47" name=""/>
            <p:cNvSpPr/>
            <p:nvPr/>
          </p:nvSpPr>
          <p:spPr>
            <a:xfrm>
              <a:off x="1756080" y="722520"/>
              <a:ext cx="29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ving a Linear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380880" y="6858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866960" y="1125360"/>
            <a:ext cx="68706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3360" y="1403280"/>
            <a:ext cx="3305160" cy="767880"/>
            <a:chOff x="603360" y="1403280"/>
            <a:chExt cx="3305160" cy="767880"/>
          </a:xfrm>
        </p:grpSpPr>
        <p:sp>
          <p:nvSpPr>
            <p:cNvPr id="51" name=""/>
            <p:cNvSpPr/>
            <p:nvPr/>
          </p:nvSpPr>
          <p:spPr>
            <a:xfrm>
              <a:off x="603360" y="1416240"/>
              <a:ext cx="3305160" cy="66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   =  –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768320" y="1403280"/>
              <a:ext cx="356760" cy="767880"/>
              <a:chOff x="1768320" y="1403280"/>
              <a:chExt cx="356760" cy="76788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1768320" y="1403280"/>
                <a:ext cx="356760" cy="767880"/>
                <a:chOff x="1768320" y="1403280"/>
                <a:chExt cx="356760" cy="767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792080" y="1403280"/>
                  <a:ext cx="333000" cy="76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 anchorCtr="1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768320" y="1781280"/>
                  <a:ext cx="3553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805400" y="1768680"/>
                <a:ext cx="302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80880" y="1282680"/>
            <a:ext cx="3970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640" y="1357200"/>
            <a:ext cx="8282160" cy="771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200" y="1650960"/>
            <a:ext cx="8039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o isolate the variable, undo the addition and then the multi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6600" y="2476440"/>
            <a:ext cx="292248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15520" y="259236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9320" y="4948560"/>
            <a:ext cx="2318400" cy="1553760"/>
            <a:chOff x="2299320" y="4948560"/>
            <a:chExt cx="2318400" cy="1553760"/>
          </a:xfrm>
        </p:grpSpPr>
        <p:sp>
          <p:nvSpPr>
            <p:cNvPr id="63" name=""/>
            <p:cNvSpPr/>
            <p:nvPr/>
          </p:nvSpPr>
          <p:spPr>
            <a:xfrm rot="2570400">
              <a:off x="3325320" y="5146560"/>
              <a:ext cx="1036800" cy="11574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9320" y="5468760"/>
              <a:ext cx="1802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 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 –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018400" y="556416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16600" y="3143160"/>
            <a:ext cx="321156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3000" y="322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trac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43160" y="3114720"/>
            <a:ext cx="2787480" cy="678600"/>
            <a:chOff x="1343160" y="3114720"/>
            <a:chExt cx="2787480" cy="678600"/>
          </a:xfrm>
        </p:grpSpPr>
        <p:sp>
          <p:nvSpPr>
            <p:cNvPr id="69" name=""/>
            <p:cNvSpPr/>
            <p:nvPr/>
          </p:nvSpPr>
          <p:spPr>
            <a:xfrm>
              <a:off x="1707120" y="3267000"/>
              <a:ext cx="242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–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43160" y="3114720"/>
              <a:ext cx="334440" cy="678600"/>
              <a:chOff x="1343160" y="3114720"/>
              <a:chExt cx="334440" cy="678600"/>
            </a:xfrm>
          </p:grpSpPr>
          <p:sp>
            <p:nvSpPr>
              <p:cNvPr id="71" name=""/>
              <p:cNvSpPr/>
              <p:nvPr/>
            </p:nvSpPr>
            <p:spPr>
              <a:xfrm>
                <a:off x="1344600" y="3114720"/>
                <a:ext cx="333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43160" y="3427200"/>
                <a:ext cx="30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5016600" y="3852720"/>
            <a:ext cx="12650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18400" y="395928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22640" y="3825720"/>
            <a:ext cx="1561680" cy="678600"/>
            <a:chOff x="2222640" y="3825720"/>
            <a:chExt cx="1561680" cy="678600"/>
          </a:xfrm>
        </p:grpSpPr>
        <p:sp>
          <p:nvSpPr>
            <p:cNvPr id="76" name=""/>
            <p:cNvSpPr/>
            <p:nvPr/>
          </p:nvSpPr>
          <p:spPr>
            <a:xfrm>
              <a:off x="2637360" y="3944880"/>
              <a:ext cx="114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=  –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222640" y="3825720"/>
              <a:ext cx="334440" cy="678600"/>
              <a:chOff x="2222640" y="3825720"/>
              <a:chExt cx="334440" cy="678600"/>
            </a:xfrm>
          </p:grpSpPr>
          <p:sp>
            <p:nvSpPr>
              <p:cNvPr id="78" name=""/>
              <p:cNvSpPr/>
              <p:nvPr/>
            </p:nvSpPr>
            <p:spPr>
              <a:xfrm>
                <a:off x="2224080" y="3825720"/>
                <a:ext cx="333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22640" y="4138560"/>
                <a:ext cx="30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5016600" y="4584600"/>
            <a:ext cx="2870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14800" y="46782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Multiply each side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12680" y="4583160"/>
            <a:ext cx="2235240" cy="689400"/>
            <a:chOff x="1912680" y="4583160"/>
            <a:chExt cx="2235240" cy="689400"/>
          </a:xfrm>
        </p:grpSpPr>
        <p:sp>
          <p:nvSpPr>
            <p:cNvPr id="83" name=""/>
            <p:cNvSpPr/>
            <p:nvPr/>
          </p:nvSpPr>
          <p:spPr>
            <a:xfrm>
              <a:off x="2568600" y="4595760"/>
              <a:ext cx="157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205000" y="4593960"/>
              <a:ext cx="334800" cy="678600"/>
              <a:chOff x="2205000" y="4593960"/>
              <a:chExt cx="334800" cy="678600"/>
            </a:xfrm>
          </p:grpSpPr>
          <p:sp>
            <p:nvSpPr>
              <p:cNvPr id="85" name=""/>
              <p:cNvSpPr/>
              <p:nvPr/>
            </p:nvSpPr>
            <p:spPr>
              <a:xfrm>
                <a:off x="2206800" y="4593960"/>
                <a:ext cx="333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05000" y="4906800"/>
                <a:ext cx="304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912680" y="4583160"/>
              <a:ext cx="305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781280" y="2441520"/>
            <a:ext cx="2155680" cy="678600"/>
            <a:chOff x="1781280" y="2441520"/>
            <a:chExt cx="2155680" cy="678600"/>
          </a:xfrm>
        </p:grpSpPr>
        <p:sp>
          <p:nvSpPr>
            <p:cNvPr id="89" name=""/>
            <p:cNvSpPr/>
            <p:nvPr/>
          </p:nvSpPr>
          <p:spPr>
            <a:xfrm>
              <a:off x="3009960" y="2594160"/>
              <a:ext cx="92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45240" y="2594160"/>
              <a:ext cx="61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83080" y="2441520"/>
              <a:ext cx="333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1280" y="2751120"/>
              <a:ext cx="304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7960" y="139716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24600" y="3957480"/>
            <a:ext cx="2619360" cy="49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24600" y="3906720"/>
            <a:ext cx="2654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4600" y="2681280"/>
            <a:ext cx="2336760" cy="525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24600" y="2631960"/>
            <a:ext cx="239076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24600" y="2103480"/>
            <a:ext cx="2400120" cy="51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4600" y="2044800"/>
            <a:ext cx="2454120" cy="62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9880" y="1623960"/>
            <a:ext cx="234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8   =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5520" y="2157480"/>
            <a:ext cx="167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8   =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23160" y="216072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2773440"/>
            <a:ext cx="263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8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+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24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4600" y="27194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02440" y="334476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39574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Divide each side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55360" y="4364280"/>
            <a:ext cx="1525680" cy="934200"/>
            <a:chOff x="2655360" y="4364280"/>
            <a:chExt cx="1525680" cy="934200"/>
          </a:xfrm>
        </p:grpSpPr>
        <p:sp>
          <p:nvSpPr>
            <p:cNvPr id="109" name=""/>
            <p:cNvSpPr/>
            <p:nvPr/>
          </p:nvSpPr>
          <p:spPr>
            <a:xfrm rot="20660400">
              <a:off x="3290400" y="4458960"/>
              <a:ext cx="804960" cy="74448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5360" y="4618080"/>
              <a:ext cx="11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 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124600" y="465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6440" y="912960"/>
            <a:ext cx="40402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   =  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204840"/>
            <a:ext cx="4582800" cy="460440"/>
            <a:chOff x="304920" y="204840"/>
            <a:chExt cx="4582800" cy="460440"/>
          </a:xfrm>
        </p:grpSpPr>
        <p:sp>
          <p:nvSpPr>
            <p:cNvPr id="114" name=""/>
            <p:cNvSpPr/>
            <p:nvPr/>
          </p:nvSpPr>
          <p:spPr>
            <a:xfrm>
              <a:off x="1681920" y="241560"/>
              <a:ext cx="32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bining Like Terms 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304920" y="20484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752480" y="6444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620800" y="3801960"/>
            <a:ext cx="1476360" cy="843840"/>
            <a:chOff x="2620800" y="3801960"/>
            <a:chExt cx="1476360" cy="843840"/>
          </a:xfrm>
        </p:grpSpPr>
        <p:sp>
          <p:nvSpPr>
            <p:cNvPr id="118" name=""/>
            <p:cNvSpPr/>
            <p:nvPr/>
          </p:nvSpPr>
          <p:spPr>
            <a:xfrm>
              <a:off x="2705760" y="4214880"/>
              <a:ext cx="353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60120" y="4198680"/>
              <a:ext cx="353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0800" y="381780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94240" y="418608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672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11520" y="3801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0120" y="416088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124600" y="1569960"/>
            <a:ext cx="2739960" cy="525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24600" y="1511280"/>
            <a:ext cx="289548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3160" y="162720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24600" y="3294000"/>
            <a:ext cx="1122120" cy="50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24600" y="3268800"/>
            <a:ext cx="11588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26400" y="33498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24600" y="4600440"/>
            <a:ext cx="1096920" cy="48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24600" y="4565520"/>
            <a:ext cx="113004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26400" y="465768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3360" y="5362560"/>
            <a:ext cx="8157960" cy="838080"/>
            <a:chOff x="603360" y="5362560"/>
            <a:chExt cx="8157960" cy="838080"/>
          </a:xfrm>
        </p:grpSpPr>
        <p:sp>
          <p:nvSpPr>
            <p:cNvPr id="135" name=""/>
            <p:cNvSpPr/>
            <p:nvPr/>
          </p:nvSpPr>
          <p:spPr>
            <a:xfrm>
              <a:off x="603360" y="5362560"/>
              <a:ext cx="8157960" cy="838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3640" y="5473800"/>
              <a:ext cx="772164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he solution is 8. When you check the solution, substitute 8 for </a:t>
              </a:r>
              <a:r>
                <a:rPr b="0" i="1" lang="en-US" sz="2200" spc="-1" strike="noStrike">
                  <a:solidFill>
                    <a:srgbClr val="0a50a1"/>
                  </a:solidFill>
                  <a:latin typeface="Arial"/>
                </a:rPr>
                <a:t>each</a:t>
              </a:r>
              <a:r>
                <a:rPr b="0" i="1" lang="en-US" sz="2000" spc="-1" strike="noStrike">
                  <a:solidFill>
                    <a:srgbClr val="0a50a1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in the original equa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89360" y="1708200"/>
            <a:ext cx="4149720" cy="55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6560" y="1727280"/>
            <a:ext cx="3264120" cy="54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920" y="204840"/>
            <a:ext cx="4924440" cy="460440"/>
            <a:chOff x="304920" y="204840"/>
            <a:chExt cx="4924440" cy="460440"/>
          </a:xfrm>
        </p:grpSpPr>
        <p:sp>
          <p:nvSpPr>
            <p:cNvPr id="141" name=""/>
            <p:cNvSpPr/>
            <p:nvPr/>
          </p:nvSpPr>
          <p:spPr>
            <a:xfrm>
              <a:off x="1682280" y="241560"/>
              <a:ext cx="354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the Distributive 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04920" y="20484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752480" y="6444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0800" y="952560"/>
            <a:ext cx="3328920" cy="48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5x + 3(x + 4) = 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10160" y="1600200"/>
            <a:ext cx="43178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0960" y="180648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ETHOD </a:t>
            </a: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how All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8064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ETHOD </a:t>
            </a: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o Some Steps 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9640" y="24177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)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4800" y="28749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760" y="335772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19760" y="382752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– 12 = 28 –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82200" y="42973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7560" y="5253120"/>
            <a:ext cx="999360" cy="779400"/>
            <a:chOff x="2707560" y="5253120"/>
            <a:chExt cx="999360" cy="779400"/>
          </a:xfrm>
        </p:grpSpPr>
        <p:sp>
          <p:nvSpPr>
            <p:cNvPr id="154" name=""/>
            <p:cNvSpPr/>
            <p:nvPr/>
          </p:nvSpPr>
          <p:spPr>
            <a:xfrm>
              <a:off x="2970360" y="5253120"/>
              <a:ext cx="736560" cy="77940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7560" y="53737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91280" y="4713120"/>
            <a:ext cx="1005120" cy="754200"/>
            <a:chOff x="2591280" y="4713120"/>
            <a:chExt cx="1005120" cy="754200"/>
          </a:xfrm>
        </p:grpSpPr>
        <p:sp>
          <p:nvSpPr>
            <p:cNvPr id="157" name=""/>
            <p:cNvSpPr/>
            <p:nvPr/>
          </p:nvSpPr>
          <p:spPr>
            <a:xfrm>
              <a:off x="2591280" y="4713120"/>
              <a:ext cx="10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 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92440" y="5081400"/>
              <a:ext cx="24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51160" y="5081400"/>
              <a:ext cx="25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39520" y="50382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1200" y="50382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05920" y="48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99920" y="24177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)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5080" y="28749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63040" y="335772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000" y="3827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41360" y="4176720"/>
            <a:ext cx="954720" cy="779400"/>
            <a:chOff x="6741360" y="4176720"/>
            <a:chExt cx="954720" cy="779400"/>
          </a:xfrm>
        </p:grpSpPr>
        <p:sp>
          <p:nvSpPr>
            <p:cNvPr id="168" name=""/>
            <p:cNvSpPr/>
            <p:nvPr/>
          </p:nvSpPr>
          <p:spPr>
            <a:xfrm>
              <a:off x="6959520" y="4176720"/>
              <a:ext cx="736560" cy="77940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41360" y="42973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36560" y="1701720"/>
            <a:ext cx="35812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36560" y="1701720"/>
            <a:ext cx="3645000" cy="4457880"/>
            <a:chOff x="736560" y="1701720"/>
            <a:chExt cx="3645000" cy="4457880"/>
          </a:xfrm>
        </p:grpSpPr>
        <p:sp>
          <p:nvSpPr>
            <p:cNvPr id="172" name=""/>
            <p:cNvSpPr/>
            <p:nvPr/>
          </p:nvSpPr>
          <p:spPr>
            <a:xfrm>
              <a:off x="736560" y="1701720"/>
              <a:ext cx="3645000" cy="445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50960" y="1806480"/>
              <a:ext cx="3515040" cy="4225680"/>
              <a:chOff x="750960" y="1806480"/>
              <a:chExt cx="3515040" cy="4225680"/>
            </a:xfrm>
          </p:grpSpPr>
          <p:sp>
            <p:nvSpPr>
              <p:cNvPr id="174" name=""/>
              <p:cNvSpPr/>
              <p:nvPr/>
            </p:nvSpPr>
            <p:spPr>
              <a:xfrm>
                <a:off x="750960" y="1806480"/>
                <a:ext cx="31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50a1"/>
                    </a:solidFill>
                    <a:latin typeface="Arial"/>
                  </a:rPr>
                  <a:t>M</a:t>
                </a:r>
                <a:r>
                  <a:rPr b="1" lang="en-US" sz="1800" spc="-1" strike="noStrike">
                    <a:solidFill>
                      <a:srgbClr val="0a50a1"/>
                    </a:solidFill>
                    <a:latin typeface="Arial"/>
                  </a:rPr>
                  <a:t>ETHOD </a:t>
                </a:r>
                <a:r>
                  <a:rPr b="1" lang="en-US" sz="2000" spc="-1" strike="noStrike">
                    <a:solidFill>
                      <a:srgbClr val="0a50a1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Show All Ste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59640" y="2417400"/>
                <a:ext cx="23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3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4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34440" y="2874600"/>
                <a:ext cx="241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2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22760" y="3357360"/>
                <a:ext cx="172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2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19400" y="3827160"/>
                <a:ext cx="294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2 – 12 = 28 –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1840" y="429696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2707200" y="5252760"/>
                <a:ext cx="998640" cy="779400"/>
                <a:chOff x="2707200" y="5252760"/>
                <a:chExt cx="998640" cy="779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969640" y="5252760"/>
                  <a:ext cx="736200" cy="779400"/>
                </a:xfrm>
                <a:prstGeom prst="irregularSeal1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707200" y="5373360"/>
                  <a:ext cx="79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=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90920" y="4713120"/>
                <a:ext cx="1005120" cy="754200"/>
                <a:chOff x="2590920" y="4713120"/>
                <a:chExt cx="1005120" cy="754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590920" y="4713120"/>
                  <a:ext cx="10051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    16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92080" y="5081400"/>
                  <a:ext cx="240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50800" y="5081400"/>
                  <a:ext cx="25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39160" y="5038200"/>
                  <a:ext cx="320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210840" y="5038200"/>
                  <a:ext cx="320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905560" y="48366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762440" y="4973760"/>
            <a:ext cx="3127320" cy="59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440" y="4145040"/>
            <a:ext cx="1133640" cy="541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62440" y="4033800"/>
            <a:ext cx="11937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62440" y="3213000"/>
            <a:ext cx="3708360" cy="65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62440" y="3111480"/>
            <a:ext cx="3810240" cy="8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62440" y="2438280"/>
            <a:ext cx="2770200" cy="57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62440" y="24004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2440" y="969840"/>
            <a:ext cx="3873600" cy="104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65040" y="1082520"/>
            <a:ext cx="3170160" cy="768600"/>
            <a:chOff x="365040" y="1082520"/>
            <a:chExt cx="3170160" cy="768600"/>
          </a:xfrm>
        </p:grpSpPr>
        <p:sp>
          <p:nvSpPr>
            <p:cNvPr id="199" name=""/>
            <p:cNvSpPr/>
            <p:nvPr/>
          </p:nvSpPr>
          <p:spPr>
            <a:xfrm>
              <a:off x="365040" y="1106640"/>
              <a:ext cx="3170160" cy="62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46262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6 =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863720" y="1082520"/>
              <a:ext cx="687240" cy="768600"/>
              <a:chOff x="1863720" y="1082520"/>
              <a:chExt cx="687240" cy="768600"/>
            </a:xfrm>
          </p:grpSpPr>
          <p:sp>
            <p:nvSpPr>
              <p:cNvPr id="201" name=""/>
              <p:cNvSpPr/>
              <p:nvPr/>
            </p:nvSpPr>
            <p:spPr>
              <a:xfrm>
                <a:off x="2198520" y="1082520"/>
                <a:ext cx="3524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01760" y="1436760"/>
                <a:ext cx="319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63720" y="1187280"/>
                <a:ext cx="352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4762440" y="901800"/>
            <a:ext cx="3954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61360" y="252252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44520" y="2363760"/>
            <a:ext cx="2236680" cy="771120"/>
            <a:chOff x="1244520" y="2363760"/>
            <a:chExt cx="2236680" cy="771120"/>
          </a:xfrm>
        </p:grpSpPr>
        <p:sp>
          <p:nvSpPr>
            <p:cNvPr id="207" name=""/>
            <p:cNvSpPr/>
            <p:nvPr/>
          </p:nvSpPr>
          <p:spPr>
            <a:xfrm>
              <a:off x="1244520" y="2368440"/>
              <a:ext cx="223668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6 =     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7320" y="2367000"/>
              <a:ext cx="33300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28760" y="271152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5360" y="23637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116000" y="4202280"/>
            <a:ext cx="147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64240" y="420516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58480" y="506556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tract 3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5640" y="4565160"/>
            <a:ext cx="1459440" cy="1293120"/>
            <a:chOff x="845640" y="4565160"/>
            <a:chExt cx="1459440" cy="1293120"/>
          </a:xfrm>
        </p:grpSpPr>
        <p:sp>
          <p:nvSpPr>
            <p:cNvPr id="215" name=""/>
            <p:cNvSpPr/>
            <p:nvPr/>
          </p:nvSpPr>
          <p:spPr>
            <a:xfrm rot="18933600">
              <a:off x="1034640" y="4754160"/>
              <a:ext cx="914400" cy="9144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49640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204840"/>
            <a:ext cx="1387440" cy="460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80840" y="24120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ing by a Reciprocal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6444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823160" y="6310440"/>
            <a:ext cx="1042920" cy="509400"/>
          </a:xfrm>
          <a:custGeom>
            <a:avLst/>
            <a:gdLst>
              <a:gd name="textAreaLeft" fmla="*/ 127080 w 1042920"/>
              <a:gd name="textAreaRight" fmla="*/ 915840 w 1042920"/>
              <a:gd name="textAreaTop" fmla="*/ 127080 h 509400"/>
              <a:gd name="textAreaBottom" fmla="*/ 38232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38807" y="5400"/>
                </a:lnTo>
                <a:lnTo>
                  <a:pt x="5400" y="5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38807" y="16200"/>
                </a:lnTo>
                <a:lnTo>
                  <a:pt x="38807" y="5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8807" y="16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65040" y="1082520"/>
            <a:ext cx="3170160" cy="768600"/>
            <a:chOff x="365040" y="1082520"/>
            <a:chExt cx="3170160" cy="768600"/>
          </a:xfrm>
        </p:grpSpPr>
        <p:sp>
          <p:nvSpPr>
            <p:cNvPr id="222" name=""/>
            <p:cNvSpPr/>
            <p:nvPr/>
          </p:nvSpPr>
          <p:spPr>
            <a:xfrm>
              <a:off x="365040" y="1106640"/>
              <a:ext cx="3170160" cy="62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46262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6 =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863720" y="1082520"/>
              <a:ext cx="687240" cy="768600"/>
              <a:chOff x="1863720" y="1082520"/>
              <a:chExt cx="687240" cy="76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2198520" y="1082520"/>
                <a:ext cx="3524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01760" y="1436760"/>
                <a:ext cx="319320" cy="0"/>
              </a:xfrm>
              <a:prstGeom prst="line">
                <a:avLst/>
              </a:prstGeom>
              <a:ln w="158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63720" y="1187280"/>
                <a:ext cx="352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4762440" y="3152880"/>
            <a:ext cx="4286160" cy="768240"/>
            <a:chOff x="4762440" y="3152880"/>
            <a:chExt cx="4286160" cy="768240"/>
          </a:xfrm>
        </p:grpSpPr>
        <p:sp>
          <p:nvSpPr>
            <p:cNvPr id="228" name=""/>
            <p:cNvSpPr/>
            <p:nvPr/>
          </p:nvSpPr>
          <p:spPr>
            <a:xfrm>
              <a:off x="4762440" y="3340080"/>
              <a:ext cx="428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Multiply by </a:t>
              </a:r>
              <a:r>
                <a:rPr b="0" lang="en-US" sz="2000" spc="-1" strike="noStrike">
                  <a:solidFill>
                    <a:srgbClr val="fe000d"/>
                  </a:solidFill>
                  <a:latin typeface="Arial"/>
                </a:rPr>
                <a:t>reciprocal of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e000d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515360" y="3152880"/>
              <a:ext cx="687240" cy="768240"/>
              <a:chOff x="7515360" y="3152880"/>
              <a:chExt cx="687240" cy="768240"/>
            </a:xfrm>
          </p:grpSpPr>
          <p:sp>
            <p:nvSpPr>
              <p:cNvPr id="230" name=""/>
              <p:cNvSpPr/>
              <p:nvPr/>
            </p:nvSpPr>
            <p:spPr>
              <a:xfrm>
                <a:off x="7850160" y="3152880"/>
                <a:ext cx="35244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53400" y="3506760"/>
                <a:ext cx="319320" cy="0"/>
              </a:xfrm>
              <a:prstGeom prst="line">
                <a:avLst/>
              </a:prstGeom>
              <a:ln w="158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15360" y="3257280"/>
                <a:ext cx="352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762440" y="934920"/>
            <a:ext cx="3924360" cy="1141560"/>
            <a:chOff x="4762440" y="934920"/>
            <a:chExt cx="3924360" cy="1141560"/>
          </a:xfrm>
        </p:grpSpPr>
        <p:sp>
          <p:nvSpPr>
            <p:cNvPr id="234" name=""/>
            <p:cNvSpPr/>
            <p:nvPr/>
          </p:nvSpPr>
          <p:spPr>
            <a:xfrm>
              <a:off x="4762440" y="934920"/>
              <a:ext cx="3924360" cy="10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18288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It is easier to solve this equation if you don’t distribute          fir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147080" y="1308240"/>
              <a:ext cx="687240" cy="768240"/>
              <a:chOff x="7147080" y="1308240"/>
              <a:chExt cx="687240" cy="768240"/>
            </a:xfrm>
          </p:grpSpPr>
          <p:sp>
            <p:nvSpPr>
              <p:cNvPr id="236" name=""/>
              <p:cNvSpPr/>
              <p:nvPr/>
            </p:nvSpPr>
            <p:spPr>
              <a:xfrm>
                <a:off x="7481880" y="1308240"/>
                <a:ext cx="35244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000d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85120" y="1662120"/>
                <a:ext cx="319320" cy="0"/>
              </a:xfrm>
              <a:prstGeom prst="line">
                <a:avLst/>
              </a:prstGeom>
              <a:ln w="158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147080" y="1412640"/>
                <a:ext cx="352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546120" y="3152880"/>
            <a:ext cx="3877920" cy="768240"/>
            <a:chOff x="546120" y="3152880"/>
            <a:chExt cx="3877920" cy="768240"/>
          </a:xfrm>
        </p:grpSpPr>
        <p:sp>
          <p:nvSpPr>
            <p:cNvPr id="240" name=""/>
            <p:cNvSpPr/>
            <p:nvPr/>
          </p:nvSpPr>
          <p:spPr>
            <a:xfrm>
              <a:off x="1236240" y="3173400"/>
              <a:ext cx="7340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6120" y="3240000"/>
              <a:ext cx="997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46120" y="3152880"/>
              <a:ext cx="740880" cy="768240"/>
              <a:chOff x="546120" y="3152880"/>
              <a:chExt cx="740880" cy="7682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46120" y="3152880"/>
                <a:ext cx="687240" cy="768240"/>
                <a:chOff x="546120" y="3152880"/>
                <a:chExt cx="687240" cy="768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880920" y="3152880"/>
                  <a:ext cx="35244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 anchorCtr="1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84160" y="3506760"/>
                  <a:ext cx="319320" cy="0"/>
                </a:xfrm>
                <a:prstGeom prst="line">
                  <a:avLst/>
                </a:prstGeom>
                <a:ln w="15840">
                  <a:solidFill>
                    <a:srgbClr val="fe00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6120" y="3257280"/>
                  <a:ext cx="3524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82480" y="3233880"/>
                <a:ext cx="112680" cy="550800"/>
              </a:xfrm>
              <a:custGeom>
                <a:avLst/>
                <a:gdLst>
                  <a:gd name="textAreaLeft" fmla="*/ 33120 w 112680"/>
                  <a:gd name="textAreaRight" fmla="*/ 113040 w 11268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173960" y="3233880"/>
                <a:ext cx="112680" cy="550800"/>
              </a:xfrm>
              <a:custGeom>
                <a:avLst/>
                <a:gdLst>
                  <a:gd name="textAreaLeft" fmla="*/ 32760 w 112680"/>
                  <a:gd name="textAreaRight" fmla="*/ 112680 w 11268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955880" y="3152880"/>
              <a:ext cx="740880" cy="768240"/>
              <a:chOff x="1955880" y="3152880"/>
              <a:chExt cx="740880" cy="7682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955880" y="3152880"/>
                <a:ext cx="687240" cy="768240"/>
                <a:chOff x="1955880" y="3152880"/>
                <a:chExt cx="687240" cy="768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290680" y="3152880"/>
                  <a:ext cx="35244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 anchorCtr="1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93920" y="3506760"/>
                  <a:ext cx="319320" cy="0"/>
                </a:xfrm>
                <a:prstGeom prst="line">
                  <a:avLst/>
                </a:prstGeom>
                <a:ln w="15840">
                  <a:solidFill>
                    <a:srgbClr val="fe00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55880" y="3257280"/>
                  <a:ext cx="3524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e000d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1992240" y="3233880"/>
                <a:ext cx="112320" cy="550800"/>
              </a:xfrm>
              <a:custGeom>
                <a:avLst/>
                <a:gdLst>
                  <a:gd name="textAreaLeft" fmla="*/ 33120 w 112320"/>
                  <a:gd name="textAreaRight" fmla="*/ 112680 w 11232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584440" y="3233880"/>
                <a:ext cx="112320" cy="550800"/>
              </a:xfrm>
              <a:custGeom>
                <a:avLst/>
                <a:gdLst>
                  <a:gd name="textAreaLeft" fmla="*/ 33480 w 112320"/>
                  <a:gd name="textAreaRight" fmla="*/ 113040 w 11232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727360" y="3152880"/>
              <a:ext cx="744120" cy="768240"/>
              <a:chOff x="2727360" y="3152880"/>
              <a:chExt cx="744120" cy="768240"/>
            </a:xfrm>
          </p:grpSpPr>
          <p:sp>
            <p:nvSpPr>
              <p:cNvPr id="257" name=""/>
              <p:cNvSpPr/>
              <p:nvPr/>
            </p:nvSpPr>
            <p:spPr>
              <a:xfrm>
                <a:off x="3062160" y="3152880"/>
                <a:ext cx="35208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65400" y="3506760"/>
                <a:ext cx="318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27360" y="3257640"/>
                <a:ext cx="352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79560" y="3233880"/>
                <a:ext cx="112320" cy="550800"/>
              </a:xfrm>
              <a:custGeom>
                <a:avLst/>
                <a:gdLst>
                  <a:gd name="textAreaLeft" fmla="*/ 33120 w 112320"/>
                  <a:gd name="textAreaRight" fmla="*/ 112680 w 11232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359160" y="3233880"/>
                <a:ext cx="112320" cy="550800"/>
              </a:xfrm>
              <a:custGeom>
                <a:avLst/>
                <a:gdLst>
                  <a:gd name="textAreaLeft" fmla="*/ 33480 w 112320"/>
                  <a:gd name="textAreaRight" fmla="*/ 113040 w 112320"/>
                  <a:gd name="textAreaTop" fmla="*/ 131040 h 550800"/>
                  <a:gd name="textAreaBottom" fmla="*/ 41976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146"/>
                      <a:pt x="0" y="10292"/>
                    </a:cubicBezTo>
                    <a:lnTo>
                      <a:pt x="0" y="11308"/>
                    </a:lnTo>
                    <a:cubicBezTo>
                      <a:pt x="0" y="1645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-169920" y="647640"/>
            <a:ext cx="4648320" cy="5684760"/>
          </a:xfrm>
          <a:prstGeom prst="rect">
            <a:avLst/>
          </a:prstGeom>
          <a:solidFill>
            <a:srgbClr val="0190c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506520" y="887400"/>
            <a:ext cx="4886280" cy="5958000"/>
          </a:xfrm>
          <a:custGeom>
            <a:avLst/>
            <a:gdLst>
              <a:gd name="textAreaLeft" fmla="*/ 75600 w 4886280"/>
              <a:gd name="textAreaRight" fmla="*/ 4810680 w 4886280"/>
              <a:gd name="textAreaTop" fmla="*/ 75600 h 5958000"/>
              <a:gd name="textAreaBottom" fmla="*/ 5882400 h 5958000"/>
            </a:gdLst>
            <a:ahLst/>
            <a:rect l="textAreaLeft" t="textAreaTop" r="textAreaRight" b="textAreaBottom"/>
            <a:pathLst>
              <a:path w="21600" h="26337">
                <a:moveTo>
                  <a:pt x="1146" y="0"/>
                </a:moveTo>
                <a:arcTo wR="1146" hR="1146" stAng="16200000" swAng="-5400000"/>
                <a:lnTo>
                  <a:pt x="0" y="25191"/>
                </a:lnTo>
                <a:arcTo wR="1146" hR="1146" stAng="10800000" swAng="-5400000"/>
                <a:lnTo>
                  <a:pt x="20454" y="26337"/>
                </a:lnTo>
                <a:arcTo wR="1146" hR="1146" stAng="5400000" swAng="-5400000"/>
                <a:lnTo>
                  <a:pt x="21600" y="1146"/>
                </a:lnTo>
                <a:arcTo wR="1146" hR="1146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t">
            <a:spAutoFit/>
          </a:bodyPr>
          <a:p>
            <a:pPr lvl="3" marL="1371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olving equations systematically </a:t>
            </a:r>
            <a:br>
              <a:rPr sz="2000"/>
            </a:b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s an example of deductive </a:t>
            </a:r>
            <a:br>
              <a:rPr sz="2000"/>
            </a:b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reasoning. Notice how each </a:t>
            </a:r>
            <a:br>
              <a:rPr sz="2000"/>
            </a:b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olution step is based on number </a:t>
            </a:r>
            <a:br>
              <a:rPr sz="2000"/>
            </a:b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properties or properties of e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68160" y="1230480"/>
            <a:ext cx="4808880" cy="1122120"/>
            <a:chOff x="668160" y="1230480"/>
            <a:chExt cx="4808880" cy="1122120"/>
          </a:xfrm>
        </p:grpSpPr>
        <p:sp>
          <p:nvSpPr>
            <p:cNvPr id="266" name=""/>
            <p:cNvSpPr/>
            <p:nvPr/>
          </p:nvSpPr>
          <p:spPr>
            <a:xfrm>
              <a:off x="668160" y="1230480"/>
              <a:ext cx="4808880" cy="1122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00160" y="1281240"/>
              <a:ext cx="3649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the formula to convert 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Celsi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68160" y="2728800"/>
            <a:ext cx="4808880" cy="2189160"/>
            <a:chOff x="668160" y="2728800"/>
            <a:chExt cx="4808880" cy="2189160"/>
          </a:xfrm>
        </p:grpSpPr>
        <p:sp>
          <p:nvSpPr>
            <p:cNvPr id="269" name=""/>
            <p:cNvSpPr/>
            <p:nvPr/>
          </p:nvSpPr>
          <p:spPr>
            <a:xfrm>
              <a:off x="668160" y="2728800"/>
              <a:ext cx="4808880" cy="21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092240" y="2732040"/>
              <a:ext cx="3395520" cy="2105640"/>
              <a:chOff x="1092240" y="2732040"/>
              <a:chExt cx="3395520" cy="2105640"/>
            </a:xfrm>
          </p:grpSpPr>
          <p:sp>
            <p:nvSpPr>
              <p:cNvPr id="271" name=""/>
              <p:cNvSpPr/>
              <p:nvPr/>
            </p:nvSpPr>
            <p:spPr>
              <a:xfrm>
                <a:off x="1092240" y="2732040"/>
                <a:ext cx="3395520" cy="21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a50a1"/>
                    </a:solidFill>
                    <a:latin typeface="Arial"/>
                  </a:rPr>
                  <a:t>The Fahrenheit and Celsius scales are related by the equation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448000" y="3765600"/>
                <a:ext cx="333000" cy="825480"/>
                <a:chOff x="2448000" y="3765600"/>
                <a:chExt cx="333000" cy="825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448000" y="376560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58800" y="4047120"/>
                  <a:ext cx="203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2506680" y="4167360"/>
                <a:ext cx="228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008680" y="1144440"/>
            <a:ext cx="3835440" cy="6135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194440" y="1271520"/>
            <a:ext cx="37465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body temperature of 9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r lower may indicate the medical condition called hypothermia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temperature on the Celsius scale may indicate hypothermia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68160" y="1065240"/>
            <a:ext cx="8323560" cy="5148360"/>
            <a:chOff x="668160" y="1065240"/>
            <a:chExt cx="8323560" cy="5148360"/>
          </a:xfrm>
        </p:grpSpPr>
        <p:sp>
          <p:nvSpPr>
            <p:cNvPr id="280" name=""/>
            <p:cNvSpPr/>
            <p:nvPr/>
          </p:nvSpPr>
          <p:spPr>
            <a:xfrm>
              <a:off x="668160" y="1065240"/>
              <a:ext cx="8323560" cy="514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0160" y="1281240"/>
              <a:ext cx="3649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UTIO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the formula to convert 9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Celsi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49360" y="20808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V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L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79360" y="220680"/>
            <a:ext cx="1096920" cy="433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63840" y="61596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92320" y="64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1640" y="665280"/>
            <a:ext cx="4177080" cy="460080"/>
            <a:chOff x="431640" y="665280"/>
            <a:chExt cx="4177080" cy="460080"/>
          </a:xfrm>
        </p:grpSpPr>
        <p:sp>
          <p:nvSpPr>
            <p:cNvPr id="287" name=""/>
            <p:cNvSpPr/>
            <p:nvPr/>
          </p:nvSpPr>
          <p:spPr>
            <a:xfrm>
              <a:off x="1808280" y="701640"/>
              <a:ext cx="280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Known Form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431640" y="665280"/>
              <a:ext cx="1387800" cy="4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1930320" y="1143000"/>
            <a:ext cx="69087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08640" y="2489040"/>
            <a:ext cx="2535120" cy="601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44920" y="2413080"/>
            <a:ext cx="271008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6120" y="258120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known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8640" y="3271680"/>
            <a:ext cx="247320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213000"/>
            <a:ext cx="26175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7920" y="33210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95°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08640" y="4094280"/>
            <a:ext cx="3290760" cy="54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4051440"/>
            <a:ext cx="3352680" cy="58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04680" y="41688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tract 32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08640" y="4757760"/>
            <a:ext cx="4246560" cy="73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03600" y="4772160"/>
            <a:ext cx="4246920" cy="711720"/>
            <a:chOff x="4503600" y="4772160"/>
            <a:chExt cx="4246920" cy="711720"/>
          </a:xfrm>
        </p:grpSpPr>
        <p:sp>
          <p:nvSpPr>
            <p:cNvPr id="301" name=""/>
            <p:cNvSpPr/>
            <p:nvPr/>
          </p:nvSpPr>
          <p:spPr>
            <a:xfrm>
              <a:off x="4503600" y="4951440"/>
              <a:ext cx="42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Multiply by      , the reciprocal of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883120" y="4772160"/>
              <a:ext cx="322560" cy="703800"/>
              <a:chOff x="5883120" y="4772160"/>
              <a:chExt cx="322560" cy="703800"/>
            </a:xfrm>
          </p:grpSpPr>
          <p:sp>
            <p:nvSpPr>
              <p:cNvPr id="303" name=""/>
              <p:cNvSpPr/>
              <p:nvPr/>
            </p:nvSpPr>
            <p:spPr>
              <a:xfrm>
                <a:off x="5883120" y="4772160"/>
                <a:ext cx="32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0a1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0a1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10120" y="5116680"/>
                <a:ext cx="266760" cy="0"/>
              </a:xfrm>
              <a:prstGeom prst="line">
                <a:avLst/>
              </a:prstGeom>
              <a:ln w="1584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247240" y="4780080"/>
              <a:ext cx="336240" cy="703800"/>
              <a:chOff x="8247240" y="4780080"/>
              <a:chExt cx="336240" cy="703800"/>
            </a:xfrm>
          </p:grpSpPr>
          <p:sp>
            <p:nvSpPr>
              <p:cNvPr id="306" name=""/>
              <p:cNvSpPr/>
              <p:nvPr/>
            </p:nvSpPr>
            <p:spPr>
              <a:xfrm>
                <a:off x="8247240" y="4780080"/>
                <a:ext cx="336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0a1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0a1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272440" y="5122800"/>
                <a:ext cx="279360" cy="0"/>
              </a:xfrm>
              <a:prstGeom prst="line">
                <a:avLst/>
              </a:prstGeom>
              <a:ln w="1584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1932120" y="4716360"/>
            <a:ext cx="914400" cy="9144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17760" y="49370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91840" y="3184560"/>
            <a:ext cx="2023200" cy="825480"/>
            <a:chOff x="1491840" y="3184560"/>
            <a:chExt cx="2023200" cy="825480"/>
          </a:xfrm>
        </p:grpSpPr>
        <p:sp>
          <p:nvSpPr>
            <p:cNvPr id="311" name=""/>
            <p:cNvSpPr/>
            <p:nvPr/>
          </p:nvSpPr>
          <p:spPr>
            <a:xfrm>
              <a:off x="1491840" y="333684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9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179800" y="3184560"/>
              <a:ext cx="333000" cy="825480"/>
              <a:chOff x="2179800" y="3184560"/>
              <a:chExt cx="333000" cy="82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2179800" y="318456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03560" y="3578400"/>
                <a:ext cx="279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1492200" y="3959280"/>
            <a:ext cx="1393920" cy="825480"/>
            <a:chOff x="1492200" y="3959280"/>
            <a:chExt cx="1393920" cy="825480"/>
          </a:xfrm>
        </p:grpSpPr>
        <p:sp>
          <p:nvSpPr>
            <p:cNvPr id="316" name=""/>
            <p:cNvSpPr/>
            <p:nvPr/>
          </p:nvSpPr>
          <p:spPr>
            <a:xfrm>
              <a:off x="1492200" y="412128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3 =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178360" y="3959280"/>
              <a:ext cx="333000" cy="825480"/>
              <a:chOff x="2178360" y="3959280"/>
              <a:chExt cx="333000" cy="825480"/>
            </a:xfrm>
          </p:grpSpPr>
          <p:sp>
            <p:nvSpPr>
              <p:cNvPr id="318" name=""/>
              <p:cNvSpPr/>
              <p:nvPr/>
            </p:nvSpPr>
            <p:spPr>
              <a:xfrm>
                <a:off x="2178360" y="395928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01760" y="4352760"/>
                <a:ext cx="279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1146960" y="5499000"/>
            <a:ext cx="7416360" cy="914400"/>
            <a:chOff x="1146960" y="5499000"/>
            <a:chExt cx="7416360" cy="914400"/>
          </a:xfrm>
        </p:grpSpPr>
        <p:sp>
          <p:nvSpPr>
            <p:cNvPr id="321" name=""/>
            <p:cNvSpPr/>
            <p:nvPr/>
          </p:nvSpPr>
          <p:spPr>
            <a:xfrm>
              <a:off x="3136680" y="5499000"/>
              <a:ext cx="1295280" cy="91440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46960" y="5711760"/>
              <a:ext cx="74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mperature of 35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r lower may indicate hypothermi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615680" y="2394000"/>
            <a:ext cx="1904040" cy="825480"/>
            <a:chOff x="1615680" y="2394000"/>
            <a:chExt cx="1904040" cy="825480"/>
          </a:xfrm>
        </p:grpSpPr>
        <p:sp>
          <p:nvSpPr>
            <p:cNvPr id="324" name=""/>
            <p:cNvSpPr/>
            <p:nvPr/>
          </p:nvSpPr>
          <p:spPr>
            <a:xfrm>
              <a:off x="2183040" y="2394000"/>
              <a:ext cx="3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15680" y="2530440"/>
              <a:ext cx="190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2920" y="2792520"/>
              <a:ext cx="279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21:30:59Z</dcterms:created>
  <dc:creator>McDougal Littell</dc:creator>
  <dc:description/>
  <dc:language>en-US</dc:language>
  <cp:lastModifiedBy>y2k2pc</cp:lastModifiedBy>
  <dcterms:modified xsi:type="dcterms:W3CDTF">2000-04-03T19:08:27Z</dcterms:modified>
  <cp:revision>62</cp:revision>
  <dc:subject/>
  <dc:title>No Slide Title</dc:title>
</cp:coreProperties>
</file>